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CD6D-6B54-48A9-944C-96F16C3CD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363E-C4CA-4EFC-B272-297D35572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F9A7-C7AF-44D4-B333-7F66197BB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7EDF-397F-4E47-BCAE-9B2DC3C58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2175-ADA7-4217-93AE-31EF9D194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01EE-BA07-4B70-8D13-AB67C4B07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B3F5-6009-4B23-B1B3-F331CC9C3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EC37-5557-4692-A77D-90AAB32D0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90D7-CD88-454C-BF41-7506EF83C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8965-8A8A-412B-A524-0898C41C8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1C46-189F-45AE-B125-FA4F98398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3F23-B708-4DA9-9D25-65016F65D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db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46574-D389-4BE5-A8FF-8AAF4D25EA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db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0"/>
          <p:cNvGrpSpPr/>
          <p:nvPr/>
        </p:nvGrpSpPr>
        <p:grpSpPr>
          <a:xfrm>
            <a:off x="-36360" y="0"/>
            <a:ext cx="539280" cy="6858000"/>
            <a:chOff x="-36360" y="0"/>
            <a:chExt cx="539280" cy="6858000"/>
          </a:xfrm>
        </p:grpSpPr>
        <p:sp>
          <p:nvSpPr>
            <p:cNvPr id="42" name="Rectangle 17"/>
            <p:cNvSpPr/>
            <p:nvPr/>
          </p:nvSpPr>
          <p:spPr>
            <a:xfrm>
              <a:off x="-36360" y="0"/>
              <a:ext cx="279000" cy="6858000"/>
            </a:xfrm>
            <a:prstGeom prst="rect">
              <a:avLst/>
            </a:prstGeom>
            <a:solidFill>
              <a:srgbClr val="99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18"/>
            <p:cNvSpPr/>
            <p:nvPr/>
          </p:nvSpPr>
          <p:spPr>
            <a:xfrm>
              <a:off x="334800" y="0"/>
              <a:ext cx="56520" cy="6858000"/>
            </a:xfrm>
            <a:prstGeom prst="rect">
              <a:avLst/>
            </a:prstGeom>
            <a:solidFill>
              <a:srgbClr val="99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19"/>
            <p:cNvSpPr/>
            <p:nvPr/>
          </p:nvSpPr>
          <p:spPr>
            <a:xfrm>
              <a:off x="446760" y="0"/>
              <a:ext cx="56160" cy="6858000"/>
            </a:xfrm>
            <a:prstGeom prst="rect">
              <a:avLst/>
            </a:prstGeom>
            <a:solidFill>
              <a:srgbClr val="99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AutoShape 9"/>
          <p:cNvSpPr/>
          <p:nvPr/>
        </p:nvSpPr>
        <p:spPr>
          <a:xfrm rot="16200000">
            <a:off x="4596480" y="-3869280"/>
            <a:ext cx="504720" cy="8475480"/>
          </a:xfrm>
          <a:prstGeom prst="octagon">
            <a:avLst>
              <a:gd name="adj" fmla="val 2928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Arial"/>
              </a:rPr>
              <a:t>Формирование раздела 2.5.2 для корректирующих форм документов за периоды 2010-2013 с использованием </a:t>
            </a: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SPU</a:t>
            </a:r>
            <a:r>
              <a:rPr b="1" lang="ru-RU" sz="1500" spc="-1" strike="noStrike">
                <a:solidFill>
                  <a:srgbClr val="ffffff"/>
                </a:solidFill>
                <a:latin typeface="Arial"/>
              </a:rPr>
              <a:t>_</a:t>
            </a: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orb</a:t>
            </a:r>
            <a:r>
              <a:rPr b="1" lang="ru-RU" sz="1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Объект 2"/>
          <p:cNvSpPr/>
          <p:nvPr/>
        </p:nvSpPr>
        <p:spPr>
          <a:xfrm>
            <a:off x="611280" y="620640"/>
            <a:ext cx="8475480" cy="194472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4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     </a:t>
            </a: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1. формирование корректирующей формы СЗВ-6-1, СЗВ-6-2 или СЗВ-6-4 в соответствующем режиме (ИС +АДВ-6-2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      </a:t>
            </a: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2. выгрузка сформированных корректирующих форм в отдельный каталог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      </a:t>
            </a: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3. в режиме формирования расчета с 2014 года во вкладке подраздела 2.5.2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300"/>
              </a:spcBef>
              <a:buClr>
                <a:srgbClr val="4f0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4f009e"/>
                </a:solidFill>
                <a:uFillTx/>
                <a:latin typeface="Arial"/>
              </a:rPr>
              <a:t>1 вариант </a:t>
            </a: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заполнение значений вручную по кнопке добави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300"/>
              </a:spcBef>
              <a:buClr>
                <a:srgbClr val="4f0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4f009e"/>
                </a:solidFill>
                <a:uFillTx/>
                <a:latin typeface="Arial"/>
              </a:rPr>
              <a:t>2 вариант </a:t>
            </a: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заполнение из файла(ов) по кнопке «добавить из файла» либо «добавить из всех файлов» в этом случае необходимо будет дозаполнить суммы доначисленных страховых взносов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300"/>
              </a:spcBef>
              <a:buClr>
                <a:srgbClr val="4f0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4f009e"/>
                </a:solidFill>
                <a:uFillTx/>
                <a:latin typeface="Arial"/>
              </a:rPr>
              <a:t>3 вариант </a:t>
            </a: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заполнение из</a:t>
            </a:r>
            <a:r>
              <a:rPr b="1" lang="en-US" sz="1200" spc="-1" strike="noStrike">
                <a:solidFill>
                  <a:srgbClr val="4f009e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АДВ-6-2  по кнопке «добавить из АДВ-6-2», в этом случае необходимо будет дозаполнить сведения о корректируемых отчетном периоде и год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103320" y="2554200"/>
            <a:ext cx="4024080" cy="2195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"/>
          <p:cNvPicPr/>
          <p:nvPr/>
        </p:nvPicPr>
        <p:blipFill>
          <a:blip r:embed="rId2"/>
          <a:stretch/>
        </p:blipFill>
        <p:spPr>
          <a:xfrm>
            <a:off x="503280" y="4673520"/>
            <a:ext cx="3854520" cy="2106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"/>
          <p:cNvPicPr/>
          <p:nvPr/>
        </p:nvPicPr>
        <p:blipFill>
          <a:blip r:embed="rId3"/>
          <a:stretch/>
        </p:blipFill>
        <p:spPr>
          <a:xfrm>
            <a:off x="4703760" y="4749840"/>
            <a:ext cx="4260960" cy="2171520"/>
          </a:xfrm>
          <a:prstGeom prst="rect">
            <a:avLst/>
          </a:prstGeom>
          <a:ln w="0">
            <a:noFill/>
          </a:ln>
        </p:spPr>
      </p:pic>
      <p:sp>
        <p:nvSpPr>
          <p:cNvPr id="50" name="Объект 2"/>
          <p:cNvSpPr/>
          <p:nvPr/>
        </p:nvSpPr>
        <p:spPr>
          <a:xfrm>
            <a:off x="4500720" y="4869000"/>
            <a:ext cx="1366560" cy="28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4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3 вариа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4"/>
          <a:stretch/>
        </p:blipFill>
        <p:spPr>
          <a:xfrm>
            <a:off x="4643280" y="2529000"/>
            <a:ext cx="4321440" cy="2144520"/>
          </a:xfrm>
          <a:prstGeom prst="rect">
            <a:avLst/>
          </a:prstGeom>
          <a:ln w="0">
            <a:noFill/>
          </a:ln>
        </p:spPr>
      </p:pic>
      <p:sp>
        <p:nvSpPr>
          <p:cNvPr id="52" name="Объект 2"/>
          <p:cNvSpPr/>
          <p:nvPr/>
        </p:nvSpPr>
        <p:spPr>
          <a:xfrm>
            <a:off x="4313160" y="2637000"/>
            <a:ext cx="1411200" cy="28728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4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2 вариа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8677440" y="6453360"/>
            <a:ext cx="28728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8T03:04:10Z</dcterms:created>
  <dc:creator>1006</dc:creator>
  <dc:description/>
  <dc:language>en-US</dc:language>
  <cp:lastModifiedBy>opfr</cp:lastModifiedBy>
  <dcterms:modified xsi:type="dcterms:W3CDTF">2014-04-09T07:10:52Z</dcterms:modified>
  <cp:revision>63</cp:revision>
  <dc:subject/>
  <dc:title>Слайд 1</dc:title>
</cp:coreProperties>
</file>